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8BDCE-BD09-4EAC-9AD1-511023248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07DC5-5677-4C9E-958C-B9749E459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55A93-FD83-4948-AD10-51F0CB4A9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C250B-6553-4D1A-A546-639AAAF2E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F6B26-8098-414E-BC4B-F76896729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C1F3D-412E-4D42-8F2F-327388BD9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381AE-E6A7-48EE-AF8F-54CDEAEF2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FFBCE-F46E-463E-8FAB-DBD93A792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4318E-CD5F-460D-BCD8-19DFCA622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A5282-899F-40F2-BFFE-E41112B0D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681F2-16F6-4B77-9138-5F8B1657D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6E420-C2A9-4BFF-8D95-9F17197FA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74665-DED4-4705-94CE-CBB4FADC8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87DDF-5F34-4BC3-B5F1-20904EF7C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25C93-A83E-4D65-9C44-4F344A508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11327-6A15-4D6A-AD13-2D6DE244A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14EE1-607E-45A7-9ADD-75D61D1FD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7E8C8-9A47-4298-859B-909C260F5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A5CE8-2FCE-4EC1-821D-9D80E6054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0C80E-731F-42FE-A37C-B901E8F34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8642A-AA8F-4DE0-84B5-28BE1893D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67E92-3833-40FF-B4B8-EDDC8DB5B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BE304-0FE6-4EDB-91CD-32CC7093B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1A2FF-77BB-4903-BA66-9149D9CFA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60108-FCAF-4989-9884-DB88C8C59ED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14422-7DD7-491E-B6AD-996CA0AD238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굴림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330066"/>
                </a:solidFill>
                <a:latin typeface="굴림"/>
              </a:rPr>
              <a:t>동산 의료원</a:t>
            </a:r>
            <a:endParaRPr b="1" lang="en-US" sz="7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굴림"/>
              </a:rPr>
              <a:t>06’ </a:t>
            </a:r>
            <a:r>
              <a:rPr b="1" lang="zh-CN" sz="3200" spc="-1" strike="noStrike">
                <a:solidFill>
                  <a:srgbClr val="000000"/>
                </a:solidFill>
                <a:latin typeface="굴림"/>
              </a:rPr>
              <a:t>김예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009.2.2~2009.2.20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위치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대구광역시 중구 동산동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194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     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물리치료실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- 2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지하철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호선 서문시장역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번 출구 서문시장방향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도보로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분 거리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"/>
          <p:cNvSpPr/>
          <p:nvPr/>
        </p:nvSpPr>
        <p:spPr>
          <a:xfrm>
            <a:off x="826920" y="2997360"/>
            <a:ext cx="360360" cy="215640"/>
          </a:xfrm>
          <a:prstGeom prst="rightArrow">
            <a:avLst>
              <a:gd name="adj1" fmla="val 50000"/>
              <a:gd name="adj2" fmla="val 4177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물리치료실 환경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작고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시설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도구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이 오래됨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치료사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명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평균연령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30~40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대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4:4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정형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3)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신경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3)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소아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로 구성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복장 자유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가운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면바지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흰 셔츠나 흰 티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명찰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머리는 단정히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병원 생활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6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출근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40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늦어도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까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식사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~ 1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식권 한 장에 천원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퇴근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(4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에 도서관 보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토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일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공휴일 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200" spc="-1" strike="noStrike">
                <a:solidFill>
                  <a:srgbClr val="330066"/>
                </a:solidFill>
                <a:latin typeface="굴림"/>
              </a:rPr>
              <a:t>병원 생활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A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조와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B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조 나누어 오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오후로 도서관에서 개인시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공부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과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가짐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질문 거의 없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그냥 치료 하는 것 보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뒷정리하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시키는 일 하면 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주일마다 환자 정해서 차트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개 작성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국내논문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6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개 요약 발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치료사의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lecture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없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금요일 아침에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Conference(8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20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분까지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330066"/>
                </a:solidFill>
                <a:latin typeface="굴림"/>
              </a:rPr>
              <a:t>감사합니다</a:t>
            </a:r>
            <a:r>
              <a:rPr b="0" lang="en-US" sz="7200" spc="-1" strike="noStrike">
                <a:solidFill>
                  <a:srgbClr val="330066"/>
                </a:solidFill>
                <a:latin typeface="굴림"/>
              </a:rPr>
              <a:t>.</a:t>
            </a:r>
            <a:endParaRPr b="1" lang="en-US" sz="7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0:13:27Z</dcterms:created>
  <dc:creator>g]</dc:creator>
  <dc:description/>
  <dc:language>en-US</dc:language>
  <cp:lastModifiedBy>경상대 컴퓨터실 프린터</cp:lastModifiedBy>
  <dcterms:modified xsi:type="dcterms:W3CDTF">2009-04-09T03:28:07Z</dcterms:modified>
  <cp:revision>19</cp:revision>
  <dc:subject/>
  <dc:title>Welcome to 꿈동산</dc:title>
</cp:coreProperties>
</file>