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2C086-4CD5-4D86-BB34-25408460E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5E9F1-4CEB-435D-AAC3-C897800B2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F371E-B24E-4CD6-BCEE-E3597FDA2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EBD12-AF6F-483F-914F-B9BEAE1E0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D3B0A-D5A3-4E68-BFFB-9F5F46AF5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0AF10-A44A-4E4A-A89E-6FFC30330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24049-549C-4F2C-BDE0-257EAF566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49E86-A46E-4495-A912-57CBB9456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5989B-B59E-41C5-B661-89C5E75DE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76804-BBD1-4383-8E5B-BF91AD5C1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EFC65-A1BE-47BD-87C6-88FDDD876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39BDB-B5FD-4301-AD06-D6502AA8A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38041-2FD4-4C59-A1AD-794882759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D2098-6985-412F-A1C5-15C79946F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B938C-88BB-43F9-9FA1-A911774E9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9DB46-0DC9-4C1C-867D-EF0A89706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EF1A0-95F9-48A8-B000-93BABB058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60E40-DC51-4F07-BC66-8A8045FA8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BF2A1-CE30-4EF2-9807-A32827EA4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23776-FFE2-46C6-A24F-170D6B0A6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C6762-C302-4C50-B1AA-F108D3AF2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EECF4-C9A8-42BF-AAC3-D028164B8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7B8E3-F3A4-4BDA-9513-4A8018751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F4BE6-1B23-449F-B3E9-55DFB53D3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1027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1028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1029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EF423-52F5-4D88-8B11-CB472CF9EBA6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F5601-02F5-47C7-8B5C-A520C5E20F6B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임상관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933560"/>
            <a:ext cx="777240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½Å¸íÁ¶"/>
              </a:rPr>
              <a:t>Meryl</a:t>
            </a:r>
            <a:r>
              <a:rPr b="0" lang="en-US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½Å¸íÁ¶"/>
                <a:ea typeface="신명조"/>
              </a:rPr>
              <a:t>J. Wall  &amp;  Florence L. Myers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권 도  하 역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한국언어치료학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절충주의적인 관점을 발전시킴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절충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여러 가지 자료에서 이끌어낸 요소들을 결합한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여러 가지 학설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방법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스타일 등에서 가장 좋다고 생각되는 것을 선택하는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절충의 필요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본질과 치료에 관하여 많은 진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 한가지의 만족스러운 방법 없음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영원히 불가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너무나 다양해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한가지 틀 속에 집어넣을 수가 없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사회적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리학적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언어학적 등의 측면에서 말더듬이들의 유사성에 따라 나눌 수는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절충적인 접근법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풍부한 이론적인 근거와 실험연구에서 유도해 낸 매우 잘 증명된 원리에 근거해야 한다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 원리에 근거를 두어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가 나타내는 특정한 증후를 검토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증후와 치료를 가장 적합하게 연결시키기 위하여 철저한 연구를 한 후에야 도달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이론없이 아무렇게나 여러 가지 치료기법들을 혼합한 것이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 장애라고 가장 많이 정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리듬장애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정상적인 흐름이 깨어져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시간 맞추기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timing)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리듬이 부적당한 패턴으로 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청각적 및 시각적 장애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향적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+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시각적인 실마리라는 견지에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자 및 청자의 반응이란 견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에 대한 기준은 객관적 및 주관적인 속성으로 이루어짐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따라서 병리적인 비유창성과 정상적인 비유창성을 구별하는 일은 어려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유 창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흐름이나 속도에 대한 일반적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전체적인 비율 형태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각 음과 음절의 지속 시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쉼의 지속시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강세대조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stress contrast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의 정도 등에 영향 받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용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본서에서는 중립적인 뜻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기타 저자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병리적인 비유창성의 반대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18" name="00418-1.mp3" descr=""/>
          <p:cNvPicPr/>
          <p:nvPr/>
        </p:nvPicPr>
        <p:blipFill>
          <a:blip r:embed="rId1"/>
          <a:stretch/>
        </p:blipFill>
        <p:spPr>
          <a:xfrm>
            <a:off x="864396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정상적인 비유창성</a:t>
            </a:r>
            <a:r>
              <a:rPr b="1" lang="en-US" sz="4400" spc="-1" strike="noStrike">
                <a:solidFill>
                  <a:srgbClr val="ffcc66"/>
                </a:solidFill>
                <a:latin typeface="HCI Hollyhock"/>
                <a:ea typeface="휴먼고딕"/>
              </a:rPr>
              <a:t>(nonfluency)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정도의 유창성 깨어짐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fluency disruption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상적인 구어 및 언어 발달 과정에 수반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정상적인 깨어짐의 일부분으로서 인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예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삽입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 반복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쉼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수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말더듬과 병리적인 비유창성</a:t>
            </a:r>
            <a:br>
              <a:rPr sz="4000"/>
            </a:br>
            <a:r>
              <a:rPr b="1" lang="en-US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(dysfluency or disfluency)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절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또는 단어가 운동적으로 깨어짐으로써 또는 화자가 거기에 반응함으로써 앞으로 흘러나오는 말의 흐름이 깨어질 때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속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강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억양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조음 외에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자의 안면 표정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자세 조정 등을 포함하는 어떤 비음성적 특징 등과 같은 변수들에 영향을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병리적인 비유창성의 결과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지연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방해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노력하는 것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불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협응 </a:t>
            </a: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등과 같은 특징이 나타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핵심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어보다 더 작은 발화 단위의 반복과 연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흐름이나 비율에서의 비정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평가 및 치료를 위한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HCI Poppy"/>
                <a:ea typeface="휴먼명조"/>
              </a:rPr>
              <a:t>3</a:t>
            </a: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요인 모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여러 가지 요인들 사이의 통합 혹은 협응의 결핍 결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폭넓고 절충적인 관점을 반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기 말더듬에 관한 정보를 조직하기 위한 모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Myers &amp; Well, 1982)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요인들과 아동기 말더듬의 임상적인 관리와 관련된 각 요인들간의 변인들을 나타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두 가지 요인들이 상호결합하면 한 요인이 다른 요인에 영향을 미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언어학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운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문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미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인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발화의 목적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용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사회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부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기타 의미있는 성인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담화의 사회적 하중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생리학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VOT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VI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두 및 후두부의 긴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자율신경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호흡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제</a:t>
            </a:r>
            <a:r>
              <a:rPr b="0" lang="en-US" sz="4400" spc="-1" strike="noStrike">
                <a:solidFill>
                  <a:srgbClr val="ffcc66"/>
                </a:solidFill>
                <a:latin typeface="HCI Poppy"/>
                <a:ea typeface="휴먼명조"/>
              </a:rPr>
              <a:t>1</a:t>
            </a: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장  서    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기 말더듬을 치료하는 임상가의 자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 치료의 어려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Wendell Johnson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글을 인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내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치료를 할 수록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치료에 관한 어떠한 치료적인 생각도 수용하게 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따라서 말더듬 치료 방법이 수없이 많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일시적 흥미 이상의 치료 성공을 거두는 방법들이 많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6" name="0043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용 글이 주는 교훈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Johnson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은 말더듬 분야의 대표적인 인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현상에 대단히 겸허하게 접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기간 치료 약속은 신중히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과 연구가 많이 발전되어 왔음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러나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와 임상실제에의 적용 사이에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 : 1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상관관계를 이루는 유일한 치료 프로그램은 없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 치료사의 자질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명조"/>
              </a:rPr>
              <a:t>말더듬에 관한 폭넓게 기초한 관점을 가질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예리한 관찰기술을 기를 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임상기법을 발전시키기 위하여 이론과 연구를 바르게 이해할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절충주의적인 관점을 발전시킬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01" name="00434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말더듬에 관한 폭넓은 기초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복잡하고 다차원적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과 구어산출 시스템 사이의 상호관계 이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산출 시스템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호흡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발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Van Riper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시간장애라고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핵심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절과 단어들의 운동형태가 일시적으로 깨어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두의 지나친 긴장과 구어산출의 기초 영역과의 장애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말더듬에 관한 폭넓은 기초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와 말더듬 사이의 상호관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발달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운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문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미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용론적 등의 발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산출 시스템이 발달하고 기간에 이루어짐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 등의 발달 사이의 상호작용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사회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리학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언어학적 등의 변인들을 고려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HCI Hollyhock"/>
                <a:ea typeface="휴먼명조"/>
              </a:rPr>
              <a:t>2. </a:t>
            </a: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예리한 관찰기술을 기를 것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대단히 복잡하고 다면적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multifaceted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에 영향을 미치는 요인에 관한 풍부한 지식을 가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행동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엄격하고 철저하게 관찰하고 서술하는 것이 중요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행동을 신뢰도와 타당도가 높게 관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관찰상의 개인내 차와 개인간 차가 허용오차 범위 내에 있도록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임상기법의 발전을 위한 이론과 연구를 바르게 이해할 것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생들의 특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인 것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&lt;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실제적인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문적 깊이 없는 실제는 위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인 통찰력과 연구발견점에 대한 지식에서 많은 것을 얻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훌륭한 연구는 풍부한 이론에서 나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러한 연구자료에 근거할 때 좋은 임상적인 방책들이 나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과 실제는 일방적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unidirectional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관계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6T00:06:49Z</dcterms:created>
  <dc:creator>황규탁</dc:creator>
  <dc:description/>
  <dc:language>en-US</dc:language>
  <cp:lastModifiedBy>user</cp:lastModifiedBy>
  <dcterms:modified xsi:type="dcterms:W3CDTF">2013-11-13T06:42:09Z</dcterms:modified>
  <cp:revision>34</cp:revision>
  <dc:subject/>
  <dc:title>말더듬 임상관리</dc:title>
</cp:coreProperties>
</file>